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DDE-8E3C-4FA6-B5D0-D17008EC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97C-DF40-495C-B14A-47FBC785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65A9-1F21-4ED9-BA79-42D96CCA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8B62-89B9-4F31-BA01-C59BB294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2EC5-5B2F-45D7-96CA-8CD84F68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3401-CAD7-4F82-922F-5DE3BFC0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9A8A-F7D4-4125-AD13-A3DC6BE7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D094-8EC8-449E-8928-18EF1E7C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EFF7-4215-416B-9017-FF894196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9255-CB10-4B90-8F65-9DE9FD83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C44E-0240-4D8B-BD4D-A163864E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400-38EB-4284-B956-40E3F54F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D1BA-8210-4BB1-B3FE-57DA91F5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3C00-B7CD-45AA-8FED-F6F9F23B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4F0E-1F83-426D-8ECC-98287C38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A2E6-EC30-46D5-BF9A-3156D8C6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5403-860C-447F-A098-2C22EE68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391-AE54-4DFA-98C7-9E9E42DA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AAEF-1CB1-472C-80B1-A19C1E06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86D-6F98-458E-8112-42184BC0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F5A-3724-4218-8FF2-D2D0AC8C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BDC-E84D-4E95-A479-D03A825E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C44-3958-4E06-96D2-D5EF8B85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308B-4258-4F91-B1EA-7DE463C6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79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4120-251B-41D8-BBA4-33AF16DF569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79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9945-EA93-4324-9B2E-F987E2085DE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79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inguistic Ter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ds You Need to Kn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79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diolec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 unique to an individu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ds we say that others don’t (we often make these up by pulling from existing words in the languag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79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colec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alect variant specific to a househ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d from an idiol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Lala (kiss without moving lips; just touch skin but make no nois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79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inguistic Terms for Standard English and Dialec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criptively Correct English:  Standard English; used to describe the “correct” way to speak or write; offers a prescription for how people should use Engl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hetorically Correct English:  is influenced by the context in which speaker finds him/herself; appropriate language is governed by speaker’s intention, audience, and con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4:58:23Z</dcterms:created>
  <dc:creator>Teacher</dc:creator>
  <dc:description/>
  <dc:language>en-US</dc:language>
  <cp:lastModifiedBy>Faculty</cp:lastModifiedBy>
  <dcterms:modified xsi:type="dcterms:W3CDTF">2008-08-27T17:35:58Z</dcterms:modified>
  <cp:revision>2</cp:revision>
  <dc:subject/>
  <dc:title>Linguistic Terms</dc:title>
</cp:coreProperties>
</file>